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FA0-0885-485F-B2C6-20166FDB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1C6-8FCE-4244-9153-D1F6B589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D3F8B-FAF3-496D-8A59-730660E5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CBF94-66C9-4C86-B7A1-27C0690A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28657-58F2-413C-9045-032C6399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712FA-ABA6-48FD-BA9C-6C51FB08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7B76B-CB81-4688-8F00-4F69C7B0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6F6E9-628D-4AAB-B7FC-73BA087A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54AB8-9313-4FAC-8B78-D3CD50A9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0F4A0-7A9E-45EE-8AF2-8C35245E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9C85E-1DAA-4181-805E-C118B202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3BC-3EAE-4435-A8FE-051EF97B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0B5-DE46-4F37-94E8-DEDCDAA8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ADF6-B7E5-4041-97DD-9845E8C3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0782-455E-4B24-9E55-F7049645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2AD7-EA77-4F6D-B7ED-ED060925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2CB0-2A10-44AC-A563-72B030AD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3D36-9E47-498C-8C5B-B9579BF0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A50A-283D-4F5F-9164-9FB4AE4D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F988-ACEA-4792-B092-383750ED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6BD-82D8-4AFD-981C-78BF080B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71DC-D7EE-4531-B941-262AE6BD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E759-8EE4-487F-9FA2-365BB8C3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F388-0643-4B69-B9BC-826BEC90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01CE-9118-40FD-BF2E-A8369320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D849-B4CE-465B-A500-28380B6F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1080F-2769-42B0-9C1A-6D263B5F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DF8CC-37D9-4528-B350-64FE2ADE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CA92F-4439-456C-8EDE-8B349B42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01529-0D36-4E42-AB13-7ACE2046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44551-F586-44F5-ABDE-28DB7CD6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F50-2631-45FA-98D4-40B56841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D35E8-01D1-4FEF-94F0-E1E7AE21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4BBED-82EA-4EB9-A43B-4206FBAB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8AC26-8C3C-4BD9-8933-C0F4F639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E8FA0-A0C9-4DDE-9EAE-12E5F845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90D93-3E3D-474F-A4A1-E26BF02A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6F47E-25FB-4F17-9A75-4187C247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EDE2B-5FB5-48BC-AD94-0E6FCA97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A747D-E8B3-4516-9B73-35E197BF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B036E4-FC0F-46EB-8328-3CA7F02C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99DDAA-4601-4AB1-B8BC-AB98EAE0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AE3-D8DD-4CCE-8D6B-D8F51C71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32D395-EB2F-477D-AECD-E0EA3964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5E819-49A5-4749-A9C3-5B2A5AB3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1B99D-EE98-4555-A0D0-07F29F7F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95693-954F-45E8-B96C-22470289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B7256-EB73-4D84-8CD4-63FFB9EB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A41FB-F14A-44FA-BE50-EE9584A9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19210-7F25-46A8-B238-E0B3E3B6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5A5039-C013-4C24-B70B-6776CC39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166C6-A198-4338-90C7-5C890886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519C3-5A8D-4114-BE90-65389684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A24-880D-4B94-B0C3-7204F210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658D1-AC91-4863-AFED-5C33915A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E1B18-69F3-4F65-8C9B-61907787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7D5622-2C4C-4BC6-8951-57CD0C98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5DDD0-78A5-4CC5-8117-3505A4D2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EF712-6840-4BB7-B04D-3FC10BD4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7947B-B639-4117-825E-62CB5ED6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6C376-79EF-48D7-B3E9-A13E6759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834E8-089C-460B-B9D3-54D00004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52544-88C3-489D-BE47-0506D7A4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4F034-59B1-413E-9CA7-0E05D5E9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432-5FBC-4EC0-BD35-1589BDFC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D7E70-6E6D-45A7-B0CA-FAC61BFD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9AF19-38F9-47C8-8436-18D8E9D8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4025A-6579-434E-B324-1A050B94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4F0B1-09C7-4F0C-A5F3-F589CC20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C48FB-5658-433A-9924-90745344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0078D-0694-408E-B1BE-AA0F461A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D7A0F-A287-4312-92E4-A0C09B49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5DD0A-A68D-4484-8129-8770B241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96D25-54EC-4041-99C4-5B5D419A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C0E29-3690-4481-B2B8-EB6793C6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F04-4E41-461B-99D5-9339FBB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7CDAE-8A0C-4ADB-9E4F-45CDFBD8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BA143-75D2-46A4-99AD-45201CD6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7E15A-A0AB-4467-8A56-E9B6E8F4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C17ED2-3AB1-42B8-BBEE-F85C0139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D5D85E-C296-421E-8E87-E36EC3B0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46DDAE-9BC8-43D1-846F-4FE63A5C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81243A-5462-4F6E-8B0D-8F102702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CC9F7-DEF1-4A0B-A062-E09D3993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007EB7-D560-488A-9026-AE6342F5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1C2E7E-9BEF-4E5E-B33B-4EAC04A9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62D-F40B-4959-9F7C-C79D76C8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D37D4-EB9E-401A-892E-31180DED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8D9A0F-CE9F-4C4D-977B-3B965BA6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5A4FD4-EA6F-4E89-9FA4-6AFD5E59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227E3F-BBE6-410F-8274-86E1642E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449F09-469D-4824-8101-A3F47821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5D42A-2800-471D-AC59-35989B93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27B22-2365-4BE9-9A23-D2F7BEB7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AFD75-D762-4D1B-99AF-0CD32CA7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A5C6F-E073-4AFD-8D2B-71F694F5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BB495-20F9-467D-81C0-12B1897D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3B6-B8D0-4160-93F1-121B38F7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C271D-104C-4FA5-A6CC-A5DF79A6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DB6C0-AAAC-4240-87BD-8DB123B9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19636-6C56-4571-BB04-8CF2C5FB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25DD5-E01D-476A-AA2D-1EA9F17E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683F6-82B7-43C0-9608-71F94C6B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F24D4-1E25-46B1-97C7-98FC056A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92278-C114-43FE-9FCD-73E69EC3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CA905-3DCB-494C-A9B4-E494FF9A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8E6D5-3743-4F77-9727-57AFE776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B7368-C846-4A2B-B926-CA49F28E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5A65-3E36-4DC5-A69A-1FC064CAB2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5D45-2270-4CEE-925A-A0FE59A4D2C6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F231-2FC7-49B1-84D8-259D3120E4E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B68B-F849-49B2-9532-1AAE465653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D0AE-E91A-4519-8E93-ADD516F06C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FDF8-373E-4E3F-940C-345FA3FB1B2F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A6BC-8385-4954-9C90-D8A38B295F6E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A872-F538-4417-86EB-4EDA072AA5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A909-7E80-4DD3-AA19-EB89B0E77A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2286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MORPHOLOG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616120" y="3352680"/>
            <a:ext cx="401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4404"/>
                </a:solidFill>
                <a:latin typeface="Tw Cen MT"/>
              </a:rPr>
              <a:t>Word Classes and Affixe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505320" y="6019920"/>
            <a:ext cx="5410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READ 7370:  Linguistics for Edu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r. Melissa C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Subway"/>
              </a:rPr>
              <a:t>English Inflectional Morpheme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14240" y="182844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Nou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–’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possess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third person singular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ed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past ten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en 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past particip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ing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Adjectiv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er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compara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est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superla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5" name="Picture 4" descr="HOST1"/>
          <p:cNvPicPr/>
          <p:nvPr/>
        </p:nvPicPr>
        <p:blipFill>
          <a:blip r:embed="rId1"/>
          <a:stretch/>
        </p:blipFill>
        <p:spPr>
          <a:xfrm>
            <a:off x="515880" y="2463840"/>
            <a:ext cx="20750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68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w Cen MT"/>
              </a:rPr>
              <a:t>Some examples of English Derivational Morphem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66680" y="18284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300"/>
              </a:spcBef>
              <a:spcAft>
                <a:spcPts val="3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-ic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   : Noun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Adj 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; alcohol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alcoholi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300"/>
              </a:spcBef>
              <a:spcAft>
                <a:spcPts val="3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-ance  : Verb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Noun 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; clear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clearan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300"/>
              </a:spcBef>
              <a:spcAft>
                <a:spcPts val="3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-ly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   : Adj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Adv     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; exact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exactl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300"/>
              </a:spcBef>
              <a:spcAft>
                <a:spcPts val="3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-ity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   : Adj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Noun  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; active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activ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300"/>
              </a:spcBef>
              <a:spcAft>
                <a:spcPts val="3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-able   : Verb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Adj   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; read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readab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-ship   : Noun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Noun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; friend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friendshi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re-      : Verb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Verb 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; cover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recov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in-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   : Adj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Adj     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; definite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indefini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Describe the italic affixes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i="1" lang="en-US" sz="2900" spc="-1" strike="noStrike">
                <a:solidFill>
                  <a:srgbClr val="000099"/>
                </a:solidFill>
                <a:latin typeface="Century Gothic"/>
              </a:rPr>
              <a:t>im</a:t>
            </a: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possib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terroriz</a:t>
            </a:r>
            <a:r>
              <a:rPr b="1" i="1" lang="en-US" sz="2900" spc="-1" strike="noStrike">
                <a:solidFill>
                  <a:srgbClr val="000099"/>
                </a:solidFill>
                <a:latin typeface="Century Gothic"/>
              </a:rPr>
              <a:t>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terror</a:t>
            </a:r>
            <a:r>
              <a:rPr b="1" i="1" lang="en-US" sz="2900" spc="-1" strike="noStrike">
                <a:solidFill>
                  <a:srgbClr val="000099"/>
                </a:solidFill>
                <a:latin typeface="Century Gothic"/>
              </a:rPr>
              <a:t>iz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desk</a:t>
            </a:r>
            <a:r>
              <a:rPr b="1" i="1" lang="en-US" sz="2900" spc="-1" strike="noStrike">
                <a:solidFill>
                  <a:srgbClr val="000099"/>
                </a:solidFill>
                <a:latin typeface="Century Gothic"/>
              </a:rPr>
              <a:t>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i="1" lang="en-US" sz="2900" spc="-1" strike="noStrike">
                <a:solidFill>
                  <a:srgbClr val="000099"/>
                </a:solidFill>
                <a:latin typeface="Century Gothic"/>
              </a:rPr>
              <a:t>dis</a:t>
            </a: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li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human</a:t>
            </a:r>
            <a:r>
              <a:rPr b="1" i="1" lang="en-US" sz="2900" spc="-1" strike="noStrike">
                <a:solidFill>
                  <a:srgbClr val="000099"/>
                </a:solidFill>
                <a:latin typeface="Century Gothic"/>
              </a:rPr>
              <a:t>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fast</a:t>
            </a:r>
            <a:r>
              <a:rPr b="1" i="1" lang="en-US" sz="2900" spc="-1" strike="noStrike">
                <a:solidFill>
                  <a:srgbClr val="000099"/>
                </a:solidFill>
                <a:latin typeface="Century Gothic"/>
              </a:rPr>
              <a:t>e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0" name="Picture 5" descr="RADIO1"/>
          <p:cNvPicPr/>
          <p:nvPr/>
        </p:nvPicPr>
        <p:blipFill>
          <a:blip r:embed="rId1"/>
          <a:stretch/>
        </p:blipFill>
        <p:spPr>
          <a:xfrm>
            <a:off x="5486400" y="1371600"/>
            <a:ext cx="1797120" cy="41148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4"/>
          <p:cNvSpPr/>
          <p:nvPr/>
        </p:nvSpPr>
        <p:spPr>
          <a:xfrm>
            <a:off x="4114800" y="1600200"/>
            <a:ext cx="4419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ational pre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flec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a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flec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ational pre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a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flec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990720" y="3049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Describe the italic affix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990720" y="1447920"/>
            <a:ext cx="3429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90000"/>
              <a:buFont typeface="Century Gothic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Century Gothic"/>
              </a:rPr>
              <a:t>pre</a:t>
            </a: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m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90000"/>
              <a:buFont typeface="Century Gothic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Century Gothic"/>
              </a:rPr>
              <a:t>un</a:t>
            </a: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90000"/>
              <a:buFont typeface="Century Gothic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dark</a:t>
            </a:r>
            <a:r>
              <a:rPr b="1" i="1" lang="en-US" sz="3200" spc="-1" strike="noStrike">
                <a:solidFill>
                  <a:srgbClr val="000099"/>
                </a:solidFill>
                <a:latin typeface="Century Gothic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90000"/>
              <a:buFont typeface="Century Gothic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fall</a:t>
            </a:r>
            <a:r>
              <a:rPr b="1" i="1" lang="en-US" sz="3200" spc="-1" strike="noStrike">
                <a:solidFill>
                  <a:srgbClr val="000099"/>
                </a:solidFill>
                <a:latin typeface="Century Gothic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90000"/>
              <a:buFont typeface="Century Gothic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ox</a:t>
            </a:r>
            <a:r>
              <a:rPr b="1" i="1" lang="en-US" sz="3200" spc="-1" strike="noStrike">
                <a:solidFill>
                  <a:srgbClr val="000099"/>
                </a:solidFill>
                <a:latin typeface="Century Gothic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90000"/>
              <a:buFont typeface="Century Gothic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fast</a:t>
            </a:r>
            <a:r>
              <a:rPr b="1" i="1" lang="en-US" sz="3200" spc="-1" strike="noStrike">
                <a:solidFill>
                  <a:srgbClr val="000099"/>
                </a:solidFill>
                <a:latin typeface="Century Gothic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90000"/>
              <a:buFont typeface="Century Gothic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lectur</a:t>
            </a:r>
            <a:r>
              <a:rPr b="1" i="1" lang="en-US" sz="3200" spc="-1" strike="noStrike">
                <a:solidFill>
                  <a:srgbClr val="000099"/>
                </a:solidFill>
                <a:latin typeface="Century Gothic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4267080" y="1447920"/>
            <a:ext cx="4419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ational pre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ational pre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a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flec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flec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flec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a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5" descr="JUGGLE"/>
          <p:cNvPicPr/>
          <p:nvPr/>
        </p:nvPicPr>
        <p:blipFill>
          <a:blip r:embed="rId1"/>
          <a:stretch/>
        </p:blipFill>
        <p:spPr>
          <a:xfrm>
            <a:off x="5181480" y="1371600"/>
            <a:ext cx="215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w Cen MT"/>
              </a:rPr>
              <a:t>Main Divisions of Word Classes 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Tw Cen MT"/>
              </a:rPr>
              <a:t>(Parts of Speech)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51920" y="2362320"/>
            <a:ext cx="403884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w Cen MT"/>
              </a:rPr>
              <a:t>Content Wor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Tw Cen MT"/>
              </a:rPr>
              <a:t>Function Wor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4724280" y="1523880"/>
            <a:ext cx="289584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Nou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Ver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Ad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Adver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4800600" y="4191120"/>
            <a:ext cx="3200400" cy="236196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Conj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Pre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Pronou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7"/>
          <p:cNvSpPr/>
          <p:nvPr/>
        </p:nvSpPr>
        <p:spPr>
          <a:xfrm>
            <a:off x="4038480" y="2286000"/>
            <a:ext cx="609840" cy="914400"/>
          </a:xfrm>
          <a:prstGeom prst="rightArrow">
            <a:avLst>
              <a:gd name="adj1" fmla="val 46528"/>
              <a:gd name="adj2" fmla="val 49403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4114800" y="4952880"/>
            <a:ext cx="609480" cy="914400"/>
          </a:xfrm>
          <a:prstGeom prst="rightArrow">
            <a:avLst>
              <a:gd name="adj1" fmla="val 46528"/>
              <a:gd name="adj2" fmla="val 49403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440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440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440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4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440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w Cen MT"/>
              </a:rPr>
              <a:t>Morpheme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w Cen MT"/>
              </a:rPr>
              <a:t>The minimal unit of meaning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560" y="2133720"/>
            <a:ext cx="5715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550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w Cen MT"/>
              </a:rPr>
              <a:t>Free morpheme: a single morpheme that constitutes a word and can stand alon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w Cen MT"/>
              </a:rPr>
              <a:t>Bound morpheme: a morpheme that must be attached to another morphem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5" name="Picture 4" descr="j0299171"/>
          <p:cNvPicPr/>
          <p:nvPr/>
        </p:nvPicPr>
        <p:blipFill>
          <a:blip r:embed="rId1"/>
          <a:stretch/>
        </p:blipFill>
        <p:spPr>
          <a:xfrm>
            <a:off x="6108840" y="2286000"/>
            <a:ext cx="2197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w Cen MT"/>
              </a:rPr>
              <a:t>Example of Bound/Free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w Cen MT"/>
              </a:rPr>
              <a:t>Morphe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5800" y="259056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Tw Cen MT"/>
              </a:rPr>
              <a:t>Retroactive = retro + act + i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99"/>
                </a:solidFill>
                <a:latin typeface="Tw Cen MT"/>
              </a:rPr>
              <a:t>Free morpheme = ac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99"/>
                </a:solidFill>
                <a:latin typeface="Tw Cen MT"/>
              </a:rPr>
              <a:t>Bound morpheme = retro-, -i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0144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w Cen MT"/>
              </a:rPr>
              <a:t>English Affixes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w Cen MT"/>
              </a:rPr>
              <a:t>(based on the position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761760" y="2882880"/>
            <a:ext cx="33764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w Cen MT"/>
              </a:rPr>
              <a:t>Prefix: An affix that occurs before a morphem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5029200" y="2895480"/>
            <a:ext cx="3505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w Cen MT"/>
              </a:rPr>
              <a:t>Suffix: An affix that occurs after a morp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"/>
          <p:cNvSpPr/>
          <p:nvPr/>
        </p:nvSpPr>
        <p:spPr>
          <a:xfrm>
            <a:off x="4495680" y="2666880"/>
            <a:ext cx="0" cy="3124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601200"/>
            <a:ext cx="68706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w Cen MT"/>
              </a:rPr>
              <a:t>English Prefix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762120" y="1904760"/>
            <a:ext cx="769608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Examples of Negative Prefix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un-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non-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dis-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a-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Examples of size and degree prefix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mini-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sub-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over-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super-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w Cen MT"/>
              </a:rPr>
              <a:t>English Suffix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8288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Class preserving suffix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-er 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lectur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-ian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libraria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-ist 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scienti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-let 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pigl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3962520" y="1828800"/>
            <a:ext cx="4800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Class changing suffixatio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Verb 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perform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performa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Adjective 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Adver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 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nice 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nice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Adjective 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 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active 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activ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8"/>
          <p:cNvSpPr/>
          <p:nvPr/>
        </p:nvSpPr>
        <p:spPr>
          <a:xfrm>
            <a:off x="3886200" y="1828800"/>
            <a:ext cx="0" cy="380988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w Cen MT"/>
              </a:rPr>
              <a:t>Affixes</a:t>
            </a:r>
            <a:br>
              <a:rPr sz="4800"/>
            </a:br>
            <a:r>
              <a:rPr b="0" lang="en-US" sz="4800" spc="-1" strike="noStrike">
                <a:solidFill>
                  <a:srgbClr val="000099"/>
                </a:solidFill>
                <a:latin typeface="Tw Cen MT"/>
              </a:rPr>
              <a:t>(based on the function)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66320" y="33526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w Cen MT"/>
              </a:rPr>
              <a:t>Inflections vs. Derivations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800000"/>
                </a:solidFill>
                <a:latin typeface="Tw Cen MT"/>
              </a:rPr>
              <a:t>Definition</a:t>
            </a:r>
            <a:endParaRPr b="0" lang="en-US" sz="5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038120" y="2034720"/>
            <a:ext cx="4343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1749"/>
              </a:spcBef>
              <a:buClr>
                <a:srgbClr val="800000"/>
              </a:buClr>
              <a:buSzPct val="9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w Cen MT"/>
              </a:rPr>
              <a:t>Derivational morpheme: deriving (creating) a new word with a new meaning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1749"/>
              </a:spcBef>
              <a:buClr>
                <a:srgbClr val="800000"/>
              </a:buClr>
              <a:buSzPct val="9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w Cen MT"/>
              </a:rPr>
              <a:t>Inflectional morpheme: changing the form of a word because of the rules of syntax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2" name="Picture 4" descr="DIRECT1"/>
          <p:cNvPicPr/>
          <p:nvPr/>
        </p:nvPicPr>
        <p:blipFill>
          <a:blip r:embed="rId1"/>
          <a:stretch/>
        </p:blipFill>
        <p:spPr>
          <a:xfrm>
            <a:off x="1066680" y="1967040"/>
            <a:ext cx="2799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3:47:15Z</dcterms:created>
  <dc:creator>Deny A. Kwary</dc:creator>
  <dc:description/>
  <dc:language>en-US</dc:language>
  <cp:lastModifiedBy>Bill Comer</cp:lastModifiedBy>
  <dcterms:modified xsi:type="dcterms:W3CDTF">2010-06-21T00:15:16Z</dcterms:modified>
  <cp:revision>14</cp:revision>
  <dc:subject/>
  <dc:title>Morphology</dc:title>
</cp:coreProperties>
</file>